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283A2-D201-4795-8F8D-A371957EE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F81D1-CE0E-40B1-9768-799E87564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24305-B30E-472E-ABF1-A378E2C41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3F6AC-D34D-4186-99BC-3650E0549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A228E-B048-4994-8291-D202F3A31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4B65F-3669-409C-953E-3F9262F96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6B79F-BC10-4245-B1E7-668EF9074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93F1D-5BA7-447C-95DA-A3D77D8B8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5F749-509D-4D25-AE4D-18328748F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0EF00-6BD7-4554-ACA3-15E1CFE45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8FF85-42E8-4038-98DB-4F6AE4238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8293B-F421-41AB-B107-2AB57AF78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23B25-8587-4A3B-A551-F714604245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cia.gov/library/publications/the%20world-factbook/printgn.html" TargetMode="External"/><Relationship Id="rId2" Type="http://schemas.openxmlformats.org/officeDocument/2006/relationships/hyperlink" Target="http://www.cia.gov/library/publications/the%20world-factbook/printgn.html" TargetMode="External"/><Relationship Id="rId3" Type="http://schemas.openxmlformats.org/officeDocument/2006/relationships/hyperlink" Target="http://www.cia.gov/library/publications/the%20world-factbook/printgn.html" TargetMode="Externa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Day In German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65724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: Michael Holmes And        Keith Wei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Grade Geogra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eriod Randolph Sch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sic Info About German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rmany’s population is about 82,369,552 people. The main language spoken in Germany is German (Deutsch). Berlin is the capital and also has the world famous Berlin w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ysical Geograph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Germany has many rivers including the Danube that starts in black forest, Germany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limate is cool, cloudy, wet winters and summers, and relatively humid.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258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ultur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rman culture reflects various traces of medieval art and architecture like cathedrals, monasteries, and cast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ost famous food is the Bratwurst. It is a sausage made from pork with spi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or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sports that are popular in Germany are Volleyball, Basketball Field hockey, Track and field events, and Ski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ost popular sport is socc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724280" y="1447920"/>
            <a:ext cx="419112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ourist Attr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rtburg Castle is one of the most famous castles in Germany, and was founded in 106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Black Forest is also a major tourist attraction. It is famous for being the origin of cuckoo clock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rlin is also a major tourist attraction. There are many sites to remind people of the history and culture in the biggest city in Germany</a:t>
            </a:r>
            <a:r>
              <a:rPr b="0" lang="en-US" sz="2400" spc="-1" strike="noStrike">
                <a:solidFill>
                  <a:srgbClr val="3399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esting Fact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rmany or the Federal Republic of Germany, is a democratic parliament nation, made up of 16 sta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rmany was a founding member of the E.U which started in 199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urrency is Eur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, Germany is the third largest country In the European Union and as well as economy in the wor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rmany has a chancellor instead of a president. A chancellor is like a U.S. presid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bliography Sli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Sit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cia.gov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/library/publications/the world-factbook/printgn.htm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travelsthroughgermany.com/wepsites/germanfood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mapsofworld.com/germany-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guide-to-castles-of-european.com/wartbutg-castle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p.greenwichmeanthime.com/timezone/europe/europeanunion/germany/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www.</a:t>
            </a: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berlin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rmauer.se/</a:t>
            </a: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BerlinWall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/bygg.ht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ook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Germany enchantment of the world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: Jean F. Blashfield, pg.7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ountries Of The World, German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: Richard Lord, pg.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Germany ABC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y: Sarah Heiman, pg.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4T18:43:17Z</dcterms:created>
  <dc:creator>michaelholmes</dc:creator>
  <dc:description/>
  <dc:language>en-US</dc:language>
  <cp:lastModifiedBy>michaelholmes</cp:lastModifiedBy>
  <dcterms:modified xsi:type="dcterms:W3CDTF">2009-02-11T18:54:03Z</dcterms:modified>
  <cp:revision>17</cp:revision>
  <dc:subject/>
  <dc:title>A Day In Germany</dc:title>
</cp:coreProperties>
</file>